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8E7-08CF-4C54-9EB4-7D238E03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B99-1BEC-422C-BD3E-8AEEBDB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E20-CC56-4D7E-A8A7-FB7F13A6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226-C938-4AE9-B7D4-317BAEFF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A05-1A5C-4B3E-8498-44A72F0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E47-ED5E-4120-8F06-5B27F67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FC5-03DD-4D5C-B343-FEEF907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80C-2332-4741-BA66-C648FF1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C18-8B40-4F3E-9EBB-D7858874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0F4-A3B4-4F6B-8826-93686E2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A3B-6C59-43C5-BD32-20E093C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EB8-3E81-422F-BB6C-D42C149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3A3-78BB-485D-9ADB-F11DD8AA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00280" y="2509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re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684360"/>
            <a:ext cx="6120000" cy="12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is          school         work        the airport         the ga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of           bed            the office           a party      a muse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loor    the mountains    a bus     a table      a bike         a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04640" y="2124000"/>
          <a:ext cx="6048720" cy="208728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04640" y="4572000"/>
            <a:ext cx="6048720" cy="12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4            March              March 1st              Tuesday        the mo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ter      the weekend       half past two         Christmas       the aftern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tmas Day             6 o’clock            night                 the seven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76280" y="6227640"/>
          <a:ext cx="6048360" cy="208728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8:42:46Z</dcterms:created>
  <dc:creator>Michael</dc:creator>
  <dc:description/>
  <dc:language>en-US</dc:language>
  <cp:lastModifiedBy>Michael</cp:lastModifiedBy>
  <dcterms:modified xsi:type="dcterms:W3CDTF">2011-04-26T08:43:39Z</dcterms:modified>
  <cp:revision>1</cp:revision>
  <dc:subject/>
  <dc:title>Slide 1</dc:title>
</cp:coreProperties>
</file>